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AA18-B517-4FFD-B833-B5BF6F253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1900-3AD0-4561-8174-0DF0E8472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2013-E713-46F5-865B-798170FC3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F151-E3D5-478B-998F-6F0ED5163E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2251-4022-4626-A851-DC13A92C54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1D02-5C8B-40E8-9171-FA90FAC48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A6F2-B9B3-4F1F-8DF2-E43E8DA19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5DC4-618F-466E-907C-390A75FFA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CF10-EC02-44BD-AC0F-AEEEB77ED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DF65-3C30-4CFB-8DF6-BC87842D0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71CE-1993-4BF8-B5C4-B1AB47640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81BE-034C-4DCA-A405-2E743C2FF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4CD9-A01F-4569-B73D-092EADC295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132A-30E2-474D-809B-AFC6A1E635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need a pen and your mar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have the following material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ic Mathematical Processes Rubric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 (you will only receive the section related to your l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AT3.2Generalization Strategies and Justification Frame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AT3.3 Recording Shee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tables we will designate for Numbers 1, 2 and 3.  No more than 4 people in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it for the next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4EC5-EC1B-4B47-B92A-5762C92E92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2674-8DFC-40E9-82CF-AFFCD0BE8F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Your Ta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ill have the next 20 minutes (approximately) to look at the criteria for your lens using the resources we have provided to ensure that you have a common understanding as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group’s common understanding of “Important Things to Consider/Look For” in the top box on the Recording Sheet.  Leave other boxes bl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0751-E46F-4450-A8F6-5FAC978F52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AFA-10B6-41C5-A088-343FECF06E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2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group will receive the same set of 4 student samples which have been numbered for ident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person will start with one of the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ing BLM AT3.3, </a:t>
            </a: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record your feedback for that student using the criteria for your lens (see box at top of your page). Record in the appropriate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you are done, turn the sample over to signal you are ready to pass the sample to the next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everyone has their sample turned over, pass the samples ONE place to the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F89A-CC6F-4FA3-8BB6-7D2DCD392E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F098-CF48-4D86-946F-4FA4D4FDF5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3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oun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arting with sample 1, do a Round Table in your group, to share your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e to CONSENSUS on 1 or 2 KEY pieces of feedback for that stu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ord with marker on the half piece of chart paper (be sure to put the student sample number on the chart paper along with the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peat for all 4 samples (approx 5 min per sa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st chart paper beside samples on the wall when d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203B-F40A-4D05-8F89-C7FC06B4DF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A688-6E4E-4E5E-A8B5-83B8D5734D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4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 groups of 3 by taking one person from each Expert Group to form new Jigsaw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 Gallery Walk to look at each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Jigsaw group member will share the justification for feedback with the other group members, based on his/he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65ED-EECE-4D6F-8529-4413B7AAF0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B0B5-BE92-4DD6-A151-3E202B03DE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focussing on a particular lens help you provide feedback?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94B4-07B7-48F3-96FC-5EDD755E57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28AA-9F9E-4C7E-A0A6-5D7FF9A146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you notice any overlaps in the feedback provided through the different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9A7B-F165-4EFF-9B58-406E8108DB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A1D2-ED43-4139-A768-0E7CF161AA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you look at providing feedback any differently now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C06C-2144-46B6-BAE0-F784B2CE08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7E58-F667-410E-B86C-01B14F5063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questions/concerns do you still hav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578C-0BA0-4ED8-A5C4-4114B31A8E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B826-C014-4426-B191-2482B6A9FF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5268-3713-48DF-A9E3-42021AB00A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5E29-FC93-4C1B-8D07-BAF9428792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ider the various criteria (lenses) through which we assess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the importance of shared teacher/student understanding of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personal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criteria are contex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responding by looking at student samples through a variety of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1FEA-B8F6-4A59-AE2B-F424414E19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42FF-FE4B-47D8-BF56-53E453EB1B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The Clapping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50D4-9D7C-4AAE-9820-0D2F3FDF10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3999-B652-41D8-BF6A-86DA2170C6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Part 1 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we looking for when we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/Applic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/Problem Sol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thematica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B885-C858-4D74-9ABB-A7D4B935F7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0BCC-D392-4990-B889-79894FE7A1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practice providing feedback on samples of student work through the following lenses (Achievement Chart and Math Proces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 and Application (Selecting Tools and Strategies, Conn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 (Representing, Communic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 (Reasoning and Proving, Problem Solving, Refl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C6F4-D026-49A6-9F93-39B07BA17D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2F92-569E-408D-8387-F754E9C683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also consider the frameworks from Ruth Beatty and Cathy 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eneraliz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B55D-7FF2-4986-B09D-D7808F5C4C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7247-9E56-48B3-A3EA-2EF3F49544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s of 4 –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off 1,2,3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1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Knowledge and Application (Selecting Tools and Strategies, Conn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2517-3ECD-4DD6-845F-5704543931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5315-E9B9-439E-846C-D2ACF33213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2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Communication (Representing, Communica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1A32-DEB5-41E1-9C96-F52B117B2C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B41E-DC17-48A3-822F-9DFB679DCE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3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Thinking (Reasoning and Proving, Problem Solving, Refl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46CA-A5E4-49F2-BEC4-107DF656FF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908E-84F5-4B5C-88FD-B4FDC13B46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6T15:12:47Z</dcterms:modified>
  <cp:revision>32</cp:revision>
  <dc:subject/>
  <dc:title>&lt;Title&gt;</dc:title>
</cp:coreProperties>
</file>